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975-8A8B-4CF8-86A4-3E01445D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56C-2B07-40DB-8F98-0FC33149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853-A155-4B77-939C-E7707F5D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9F5-B9D4-477A-BDA5-EA3E2238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D675-8215-4468-9C0E-3408C9F6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39EC-1A40-4B65-9FB3-A8D31B52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C8CB-405D-4E40-9FDA-019D188D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669B-62A9-4EE3-9ECC-B9B29F09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B995-05B3-4973-A717-CCF29471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D579-C475-48FF-B18D-0B23C31E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FE98-693E-40D5-AB6A-2DEE4009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85A-C6BA-46DE-B3FD-AD6BA5AF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6734-0878-43DC-8819-7C0507F3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75B6-CB46-4E4B-BC61-5F74B2A4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5396-42AB-485E-8425-44D706BE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0E40-7A94-4268-A8C7-26AC19B6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DFEC-F2D1-4253-9B93-C024CCD5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622-0FE6-4BF8-A5B0-C652690D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C40-7DA6-44DB-8364-59ABC00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EFD-231C-40B9-AB3D-3455A287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3CC-1A82-4221-B0E0-F570D5CE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96A-920C-425D-BBB4-1E5B2F7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FA2-6493-48F3-8898-EA700647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3A3-14BD-465C-BE41-3007FB9B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1A9D-B393-4197-8C13-CB85F175F74D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54EB-E117-4E15-92E1-A010C0D4227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zinearticles.com/?Why-Women-Suffer-From-Insomnia-More-Than-Men&amp;id=1409114" TargetMode="External"/><Relationship Id="rId3" Type="http://schemas.openxmlformats.org/officeDocument/2006/relationships/hyperlink" Target="http://www.mothernature.com/Library/bookshelf/Books/62/55.cfm" TargetMode="External"/><Relationship Id="rId4" Type="http://schemas.openxmlformats.org/officeDocument/2006/relationships/hyperlink" Target="http://www.medicinenet.com/script/main/art.asp?articlekey=87311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5053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nsomnia…Why women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5562720" cy="990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 Michelle Ki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uren Ka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drew Nogamo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124080" y="533520"/>
            <a:ext cx="2752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is Insomnia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somnia is a symptom of a sleeping disorder, when someone is unable to or has difficulty sleeping even though the opportunity to sleep is given 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2152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y Women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oman suffers from insomnia twice as muc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ecause of the biological make up of women such as hormon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ome women, insomnia is a regular, recurring problem once a month, just before they menstruat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so occurs for women who experience premenstrual syndrome and a major nuisance for post menstrual wome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is also a common symptom of hormonal imbalance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ormonal replacement therapy can make it go away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menstruation cycle makes insomnia even more common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pregnant women, it is easier for them to get insomnia due to their size of the body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oman also go through more anxiety and depression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8862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1cc"/>
                </a:solidFill>
                <a:uFillTx/>
                <a:latin typeface="Century Gothic"/>
                <a:hlinkClick r:id="rId2"/>
              </a:rPr>
              <a:t>http://ezinearticles.com/?Why-Women-Suffer-From-Insomnia-More-Than-Men&amp;id=1409114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1cc"/>
                </a:solidFill>
                <a:uFillTx/>
                <a:latin typeface="Century Gothic"/>
                <a:hlinkClick r:id="rId3"/>
              </a:rPr>
              <a:t>http://www.mothernature.com/Library/bookshelf/Books/62/55.cf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1cc"/>
                </a:solidFill>
                <a:uFillTx/>
                <a:latin typeface="Century Gothic"/>
                <a:hlinkClick r:id="rId4"/>
              </a:rPr>
              <a:t>http://www.medicinenet.com/script/main/art.asp?articlekey=8731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4:36:53Z</dcterms:created>
  <dc:creator>Lauren Kang</dc:creator>
  <dc:description/>
  <dc:language>en-US</dc:language>
  <cp:lastModifiedBy>Lauren Kang</cp:lastModifiedBy>
  <dcterms:modified xsi:type="dcterms:W3CDTF">2008-10-07T05:14:27Z</dcterms:modified>
  <cp:revision>1</cp:revision>
  <dc:subject/>
  <dc:title>Insomnia…Why women?</dc:title>
</cp:coreProperties>
</file>